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68-1B89-4372-BB6C-24E841A7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3BC-5B02-4D69-AB78-98AFC31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462-B096-4732-91FE-CCF4304D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104-1805-4B84-87B8-B18783BB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8E5D-2238-4217-8E8B-04699A7A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5DCA-7AC4-4BF4-A2D1-CCF9B73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5FB2-20AC-4F4C-81EE-BE09F52E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2B9-A1CF-4E30-862B-D2858DD0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95F8-83E4-4C60-9011-99229E3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41F5-EFCE-46E7-B3D6-5AD0C476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EB80-42D8-45E2-8C42-ED3B909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A55-E484-40C0-BF20-91C65A2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1706-0C95-44BB-ABF5-4983F5C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5AC-D074-4097-ABC0-907631E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8C9-7285-4F26-94AA-ED44E0E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5273-2DAA-4811-9C4B-F3822202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7679-7F3F-4B22-9528-4E622218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A60-9CFC-477F-B0EA-7E14AF04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116-DFAB-433B-86AA-7741F2D1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D1B-28F7-434E-9CCA-BCE42393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6E9-8258-4904-9FC6-9C9BE613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FC0-3B4C-4DFB-92A9-22D174C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DF3-765A-4196-A88A-F254431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17A-6F79-4C2A-82D9-FC8705C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A8E8-CEA2-4A80-8688-B201D45EB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4243-B802-49CF-A648-2A8939D08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19320" y="6400800"/>
            <a:ext cx="7022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y Liz LaRosa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www.middleschoolscience.com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sciencespot.net/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 rot="20817600">
            <a:off x="301680" y="12906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nap ITC"/>
              </a:rPr>
              <a:t>Chemistr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1143000" y="5068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Challenge #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4038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ap ITC"/>
              </a:rPr>
              <a:t>Acids &amp; Ba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C:\Documents and Settings\Liz\Local Settings\Temporary Internet Files\Content.IE5\EEEZ3B4P\MCj03663640000[1].wmf"/>
          <p:cNvPicPr/>
          <p:nvPr/>
        </p:nvPicPr>
        <p:blipFill>
          <a:blip r:embed="rId2"/>
          <a:stretch/>
        </p:blipFill>
        <p:spPr>
          <a:xfrm>
            <a:off x="6858000" y="2362320"/>
            <a:ext cx="2165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0"/>
          <p:cNvSpPr/>
          <p:nvPr/>
        </p:nvSpPr>
        <p:spPr>
          <a:xfrm>
            <a:off x="609480" y="152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 or Bas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ify the following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38080" y="198108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2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6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8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1.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3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4.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0"/>
          <p:cNvSpPr/>
          <p:nvPr/>
        </p:nvSpPr>
        <p:spPr>
          <a:xfrm>
            <a:off x="609480" y="152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 or Bas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assify the following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838080" y="198108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2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6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8.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1.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13.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= 4.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038480" y="198108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70c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70c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70c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4:12:40Z</dcterms:created>
  <dc:creator>Liz</dc:creator>
  <dc:description/>
  <dc:language>en-US</dc:language>
  <cp:lastModifiedBy>PritchaJ</cp:lastModifiedBy>
  <dcterms:modified xsi:type="dcterms:W3CDTF">2011-06-01T13:38:46Z</dcterms:modified>
  <cp:revision>55</cp:revision>
  <dc:subject/>
  <dc:title>Slide 1</dc:title>
</cp:coreProperties>
</file>